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0B8-778E-4518-92FB-6FB49311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FF8-3468-4FCB-9179-4EBF64DB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AE4-0DAD-4A9C-A05A-E46771B4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C5C-6830-42FD-BEAA-56D40DAB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27A-09D8-4356-A0D1-5F6694E8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B2D-BC28-4980-9616-820718F5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A36-9D20-49F1-BA9F-A1E78A9B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ABE-EC0B-4738-97F6-D248E719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4AD-31B5-4CB2-BF0C-F018BFD9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3EC-116D-4F0E-B1AE-D45B3109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019-2C72-4A78-9402-79697525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319-D8BE-4E80-8C4E-09804A34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7AA8-BB5E-4AFD-9CE9-13469A919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F44D-4AF2-4CAA-BD3D-AB21B32AD175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91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5030640" cy="3819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77336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5164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2565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723640" y="3140640"/>
            <a:ext cx="1008000" cy="86364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59640" y="2852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4005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40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59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6000" y="335772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   =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+  4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371628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   =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6  +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6000" y="400536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   =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6000" y="436572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  =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√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6000" y="508464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  =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x4 √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537372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  =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8√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472428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 =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√16 √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179280" y="1484280"/>
            <a:ext cx="12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4360" y="1773360"/>
            <a:ext cx="820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ind the equations of the tangents to the circle  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– 4y – 6 = 0  from the point  (0,-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923760" y="2335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4y – 6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855720" y="2725560"/>
            <a:ext cx="25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g = 0   so  g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855720" y="3036960"/>
            <a:ext cx="26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f = -4   so  f =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855720" y="3348000"/>
            <a:ext cx="21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entre is (0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415880" y="4186080"/>
            <a:ext cx="990720" cy="914400"/>
          </a:xfrm>
          <a:prstGeom prst="ellipse">
            <a:avLst/>
          </a:prstGeom>
          <a:solidFill>
            <a:srgbClr val="a6a6a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0"/>
          <p:cNvSpPr/>
          <p:nvPr/>
        </p:nvSpPr>
        <p:spPr>
          <a:xfrm flipV="1">
            <a:off x="1900080" y="3881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1214280" y="4348080"/>
            <a:ext cx="9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0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438200" y="6014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816200" y="3805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 flipV="1">
            <a:off x="1568520" y="4262400"/>
            <a:ext cx="121896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5"/>
          <p:cNvSpPr/>
          <p:nvPr/>
        </p:nvSpPr>
        <p:spPr>
          <a:xfrm flipH="1" flipV="1">
            <a:off x="1187280" y="4338720"/>
            <a:ext cx="106704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3495600" y="2627280"/>
            <a:ext cx="0" cy="3657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3591000" y="27828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ch tangent takes the form   y = mx 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3591000" y="3173400"/>
            <a:ext cx="55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place y  by  (mx – 8)  in the circl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3591000" y="356400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find where they m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6647040" y="3564000"/>
            <a:ext cx="19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gives u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5"/>
          <p:cNvSpPr/>
          <p:nvPr/>
        </p:nvSpPr>
        <p:spPr>
          <a:xfrm>
            <a:off x="3603600" y="405612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4y – 6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6"/>
          <p:cNvSpPr/>
          <p:nvPr/>
        </p:nvSpPr>
        <p:spPr>
          <a:xfrm>
            <a:off x="3603600" y="4589640"/>
            <a:ext cx="40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+ (mx – 8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4(mx – 8) – 6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7"/>
          <p:cNvSpPr/>
          <p:nvPr/>
        </p:nvSpPr>
        <p:spPr>
          <a:xfrm>
            <a:off x="3603600" y="5122800"/>
            <a:ext cx="49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16mx + 64 –4mx + 32 – 6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3603600" y="5656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1)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20mx + 90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9"/>
          <p:cNvSpPr/>
          <p:nvPr/>
        </p:nvSpPr>
        <p:spPr>
          <a:xfrm>
            <a:off x="179280" y="6427800"/>
            <a:ext cx="248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In this quadr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0"/>
          <p:cNvSpPr/>
          <p:nvPr/>
        </p:nvSpPr>
        <p:spPr>
          <a:xfrm>
            <a:off x="2700360" y="642780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a = (m</a:t>
            </a:r>
            <a:r>
              <a:rPr b="0" lang="en-US" sz="2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+ 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1"/>
          <p:cNvSpPr/>
          <p:nvPr/>
        </p:nvSpPr>
        <p:spPr>
          <a:xfrm>
            <a:off x="4500720" y="642780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b = -20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2"/>
          <p:cNvSpPr/>
          <p:nvPr/>
        </p:nvSpPr>
        <p:spPr>
          <a:xfrm>
            <a:off x="6629400" y="6410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c =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9"/>
          <p:cNvSpPr/>
          <p:nvPr/>
        </p:nvSpPr>
        <p:spPr>
          <a:xfrm>
            <a:off x="1855800" y="4611600"/>
            <a:ext cx="93600" cy="954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0" y="981000"/>
            <a:ext cx="27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Using Discri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2"/>
          <p:cNvSpPr/>
          <p:nvPr/>
        </p:nvSpPr>
        <p:spPr>
          <a:xfrm>
            <a:off x="930240" y="1916280"/>
            <a:ext cx="534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For tangency we need   discriminate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6845400" y="1916280"/>
            <a:ext cx="180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– 4ac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243080" y="2608200"/>
            <a:ext cx="417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-20m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4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 1)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90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846440" y="3263760"/>
            <a:ext cx="346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400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360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360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3083040" y="3797280"/>
            <a:ext cx="240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40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– 360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889440" y="433080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40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= 3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4226040" y="4863960"/>
            <a:ext cx="119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=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786280" y="4844880"/>
            <a:ext cx="186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m = -3  or 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919080" y="5522760"/>
            <a:ext cx="34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 the two tangent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4465800" y="5522760"/>
            <a:ext cx="432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y = -3x – 8   and   y = 3x -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0" y="5950080"/>
            <a:ext cx="82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gradients are reflected in the symmetry of the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0" y="1125360"/>
            <a:ext cx="1368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82a"/>
                </a:solidFill>
                <a:latin typeface="Comic Sans MS"/>
              </a:rPr>
              <a:t>Tan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0916-2DCE-4B87-96B7-F4670303AF1E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314784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s of Tan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901800" y="198108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NB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:     At the point of 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 tangent and radius/diameter a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pendicular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1587600" y="3402000"/>
            <a:ext cx="1706400" cy="1627200"/>
          </a:xfrm>
          <a:prstGeom prst="ellipse">
            <a:avLst/>
          </a:prstGeom>
          <a:solidFill>
            <a:srgbClr val="7f7f7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8"/>
          <p:cNvSpPr/>
          <p:nvPr/>
        </p:nvSpPr>
        <p:spPr>
          <a:xfrm flipV="1">
            <a:off x="1093680" y="4065120"/>
            <a:ext cx="36576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"/>
          <p:cNvSpPr/>
          <p:nvPr/>
        </p:nvSpPr>
        <p:spPr>
          <a:xfrm>
            <a:off x="2465280" y="426708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0"/>
          <p:cNvSpPr/>
          <p:nvPr/>
        </p:nvSpPr>
        <p:spPr>
          <a:xfrm rot="9278400">
            <a:off x="2796480" y="4778280"/>
            <a:ext cx="152280" cy="152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1"/>
          <p:cNvSpPr/>
          <p:nvPr/>
        </p:nvSpPr>
        <p:spPr>
          <a:xfrm>
            <a:off x="4222800" y="3666960"/>
            <a:ext cx="13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an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2"/>
          <p:cNvSpPr/>
          <p:nvPr/>
        </p:nvSpPr>
        <p:spPr>
          <a:xfrm>
            <a:off x="1644480" y="43340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3"/>
          <p:cNvSpPr/>
          <p:nvPr/>
        </p:nvSpPr>
        <p:spPr>
          <a:xfrm>
            <a:off x="1627200" y="5791320"/>
            <a:ext cx="632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is means we make use of   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1"/>
          <p:cNvSpPr/>
          <p:nvPr/>
        </p:nvSpPr>
        <p:spPr>
          <a:xfrm>
            <a:off x="2394000" y="4162320"/>
            <a:ext cx="93600" cy="1065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2"/>
          <p:cNvSpPr/>
          <p:nvPr/>
        </p:nvSpPr>
        <p:spPr>
          <a:xfrm>
            <a:off x="2801880" y="4913280"/>
            <a:ext cx="93600" cy="1065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6788-7052-4BDC-81C0-2DCBC08DF193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2"/>
          <p:cNvSpPr/>
          <p:nvPr/>
        </p:nvSpPr>
        <p:spPr>
          <a:xfrm>
            <a:off x="0" y="1125360"/>
            <a:ext cx="2973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82a"/>
                </a:solidFill>
                <a:latin typeface="Comic Sans MS"/>
              </a:rPr>
              <a:t>Equations of Tan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874800" y="1484280"/>
            <a:ext cx="119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73200" y="1944720"/>
            <a:ext cx="650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Prove that the point (-4,4) lies on the circle                                        x</a:t>
            </a:r>
            <a:r>
              <a:rPr b="0" lang="en-US" sz="2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– 12y + 16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1008000" y="2639880"/>
            <a:ext cx="650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Find the equation of the tangent 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950760" y="3218040"/>
            <a:ext cx="45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(-4,4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12y + 1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5194440" y="32180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16 + 16 – 48 +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7893000" y="3218040"/>
            <a:ext cx="10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2698920" y="3746520"/>
            <a:ext cx="49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(-4,4) must lie on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2698920" y="432576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12y + 1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2698920" y="49370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g = 0   so   g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2698920" y="5545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f = -12  so   f = 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698920" y="6248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entre is (-g,-f) = (0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6"/>
          <p:cNvGrpSpPr/>
          <p:nvPr/>
        </p:nvGrpSpPr>
        <p:grpSpPr>
          <a:xfrm>
            <a:off x="7861320" y="2357280"/>
            <a:ext cx="933480" cy="459720"/>
            <a:chOff x="7861320" y="2357280"/>
            <a:chExt cx="933480" cy="459720"/>
          </a:xfrm>
        </p:grpSpPr>
        <p:sp>
          <p:nvSpPr>
            <p:cNvPr id="322" name="Rectangle 15"/>
            <p:cNvSpPr/>
            <p:nvPr/>
          </p:nvSpPr>
          <p:spPr>
            <a:xfrm>
              <a:off x="7861320" y="2357280"/>
              <a:ext cx="916200" cy="4575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4"/>
            <p:cNvSpPr/>
            <p:nvPr/>
          </p:nvSpPr>
          <p:spPr>
            <a:xfrm>
              <a:off x="7861320" y="2357280"/>
              <a:ext cx="933480" cy="45972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0D17-C087-423B-9A61-4FE1291BFD26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Oval 3"/>
          <p:cNvSpPr/>
          <p:nvPr/>
        </p:nvSpPr>
        <p:spPr>
          <a:xfrm>
            <a:off x="1460520" y="1963800"/>
            <a:ext cx="1371600" cy="1371600"/>
          </a:xfrm>
          <a:prstGeom prst="ellipse">
            <a:avLst/>
          </a:prstGeom>
          <a:solidFill>
            <a:srgbClr val="a6a6a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 flipH="1">
            <a:off x="1612800" y="264960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977760" y="2330280"/>
            <a:ext cx="144792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828800" y="22496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0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963720" y="32227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-4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3011400" y="208296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dient of radiu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5992920" y="1895400"/>
            <a:ext cx="1143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– y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– 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0"/>
          <p:cNvSpPr/>
          <p:nvPr/>
        </p:nvSpPr>
        <p:spPr>
          <a:xfrm>
            <a:off x="6056280" y="2367000"/>
            <a:ext cx="838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7047000" y="2082960"/>
            <a:ext cx="194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(6 – 4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(0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5727600" y="277956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5742000" y="342432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2209680" y="4235400"/>
            <a:ext cx="45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gradient of tangent  =  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6781680" y="42354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 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2209680" y="4795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 – b = m(x –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2209680" y="5302080"/>
            <a:ext cx="53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– 4 = -2(x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2236680" y="58132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– 4 = -2x 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2738520" y="6319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= -2x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0"/>
          <p:cNvSpPr/>
          <p:nvPr/>
        </p:nvSpPr>
        <p:spPr>
          <a:xfrm>
            <a:off x="1573200" y="3038400"/>
            <a:ext cx="120600" cy="1350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1"/>
          <p:cNvSpPr/>
          <p:nvPr/>
        </p:nvSpPr>
        <p:spPr>
          <a:xfrm>
            <a:off x="2075040" y="2612880"/>
            <a:ext cx="122040" cy="1350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0" y="981000"/>
            <a:ext cx="313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82a"/>
                </a:solidFill>
                <a:latin typeface="Comic Sans MS"/>
              </a:rPr>
              <a:t>Equations of Tan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00360" y="404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068A-950A-477F-AEDC-F7CB98DD556E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28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angents to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806E-61B5-4697-ADB3-6F4C8E9961A4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48000" y="765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ngents to cir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5514-4995-496E-8A66-F262B69CE51D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58920" y="1989000"/>
            <a:ext cx="6626160" cy="403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2637000"/>
            <a:ext cx="745164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angents to a circl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ge 174 Exercise 4   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ections of lines and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ge 176 Q2 to Build ski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ithmetic  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B35F-DA9F-46E5-A8BD-3B7FC530A115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00000" y="1989000"/>
            <a:ext cx="3313080" cy="439272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1916280"/>
            <a:ext cx="3313080" cy="4392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744480" y="633240"/>
            <a:ext cx="675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82a"/>
                </a:solidFill>
                <a:latin typeface="Comic Sans MS"/>
              </a:rPr>
              <a:t>Equation   x</a:t>
            </a:r>
            <a:r>
              <a:rPr b="0" lang="en-US" sz="2800" spc="-1" strike="noStrike" baseline="30000">
                <a:solidFill>
                  <a:srgbClr val="eef82a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eef82a"/>
                </a:solidFill>
                <a:latin typeface="Comic Sans MS"/>
              </a:rPr>
              <a:t> + y</a:t>
            </a:r>
            <a:r>
              <a:rPr b="0" lang="en-US" sz="2800" spc="-1" strike="noStrike" baseline="30000">
                <a:solidFill>
                  <a:srgbClr val="eef82a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eef82a"/>
                </a:solidFill>
                <a:latin typeface="Comic Sans MS"/>
              </a:rPr>
              <a:t> + 2gx + 2fy + c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847800" y="1411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052800" y="27306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- 10x + 4y - 5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"/>
          <p:cNvSpPr/>
          <p:nvPr/>
        </p:nvSpPr>
        <p:spPr>
          <a:xfrm flipV="1">
            <a:off x="3276720" y="3160800"/>
            <a:ext cx="1214280" cy="88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2590920" y="3967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g = 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2743200" y="4348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 =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7"/>
          <p:cNvSpPr/>
          <p:nvPr/>
        </p:nvSpPr>
        <p:spPr>
          <a:xfrm flipV="1">
            <a:off x="5257800" y="320472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724280" y="3967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f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4876920" y="4348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0"/>
          <p:cNvSpPr/>
          <p:nvPr/>
        </p:nvSpPr>
        <p:spPr>
          <a:xfrm flipH="1" flipV="1">
            <a:off x="5866920" y="3205080"/>
            <a:ext cx="7621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6324480" y="3738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909720" y="53388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ntre = (-g,-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3156120" y="533880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 (5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5508720" y="5240160"/>
            <a:ext cx="34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us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6418440" y="5770440"/>
            <a:ext cx="26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5 + 4 – (-5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6418440" y="6297480"/>
            <a:ext cx="10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958680" y="187308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nd the centre &amp; radius of     x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- 10x + 4y - 5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21"/>
          <p:cNvGrpSpPr/>
          <p:nvPr/>
        </p:nvGrpSpPr>
        <p:grpSpPr>
          <a:xfrm>
            <a:off x="7848720" y="2671920"/>
            <a:ext cx="914400" cy="609480"/>
            <a:chOff x="7848720" y="2671920"/>
            <a:chExt cx="914400" cy="609480"/>
          </a:xfrm>
        </p:grpSpPr>
        <p:sp>
          <p:nvSpPr>
            <p:cNvPr id="397" name="Rectangle 21"/>
            <p:cNvSpPr/>
            <p:nvPr/>
          </p:nvSpPr>
          <p:spPr>
            <a:xfrm>
              <a:off x="7848720" y="2671920"/>
              <a:ext cx="914400" cy="60948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0"/>
            <p:cNvSpPr/>
            <p:nvPr/>
          </p:nvSpPr>
          <p:spPr>
            <a:xfrm>
              <a:off x="7853400" y="2747880"/>
              <a:ext cx="90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33"/>
                  </a:solidFill>
                  <a:latin typeface="Comic Sans MS"/>
                </a:rPr>
                <a:t>NA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Straight Connector 22"/>
          <p:cNvSpPr/>
          <p:nvPr/>
        </p:nvSpPr>
        <p:spPr>
          <a:xfrm flipH="1">
            <a:off x="5027760" y="4842000"/>
            <a:ext cx="2880" cy="1936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65D6-C379-4517-93E2-A10BBF681F8C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91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5030640" cy="4095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77336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35640" y="2492280"/>
            <a:ext cx="35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Q is diam, = 12, radius = 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36. so must be A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28464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entre co-ords (6,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0000" y="378936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 – a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(y – b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4221000"/>
            <a:ext cx="30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 – 6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(y – 2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57AC-1AB6-4255-98AA-7A7EEAF90A3A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91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5030640" cy="399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77336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164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4360" y="2637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gradient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24360" y="299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C is  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4360" y="3284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Q is  (12, -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3716280"/>
            <a:ext cx="30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 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Q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 - 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40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 -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4292640"/>
            <a:ext cx="151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 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Q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-  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16720" y="458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4000" y="486900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angent is perpendicular to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93080" y="5300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5589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ADB5-6697-41B6-B56D-AF6CCB352BAC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91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084560" cy="4370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177336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32360" y="2492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29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26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</a:rPr>
              <a:t>dx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22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364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5636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59640" y="26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56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371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3789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4364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378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2340000" y="16286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re are 3 possibl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4"/>
          <p:cNvSpPr/>
          <p:nvPr/>
        </p:nvSpPr>
        <p:spPr>
          <a:xfrm>
            <a:off x="1282680" y="2573280"/>
            <a:ext cx="1523880" cy="1371600"/>
          </a:xfrm>
          <a:prstGeom prst="ellipse">
            <a:avLst/>
          </a:prstGeom>
          <a:solidFill>
            <a:srgbClr val="7f7f7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3720960" y="2573280"/>
            <a:ext cx="1524240" cy="1371600"/>
          </a:xfrm>
          <a:prstGeom prst="ellipse">
            <a:avLst/>
          </a:prstGeom>
          <a:solidFill>
            <a:srgbClr val="00b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6311880" y="2573280"/>
            <a:ext cx="1523880" cy="1371600"/>
          </a:xfrm>
          <a:prstGeom prst="ellipse">
            <a:avLst/>
          </a:prstGeom>
          <a:solidFill>
            <a:srgbClr val="ffc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"/>
          <p:cNvSpPr/>
          <p:nvPr/>
        </p:nvSpPr>
        <p:spPr>
          <a:xfrm flipV="1">
            <a:off x="749160" y="2878200"/>
            <a:ext cx="22860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 flipV="1">
            <a:off x="3720960" y="3728520"/>
            <a:ext cx="182880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 flipV="1">
            <a:off x="6845400" y="3944880"/>
            <a:ext cx="182880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1084320" y="42530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 points  of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3962520" y="42512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1 point of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6499080" y="4251240"/>
            <a:ext cx="26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0  points  of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4051440" y="455940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ine is a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n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685800" y="56610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determine where the line and circle meet we use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simultaneous equation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discriminan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ells us how many solutions we h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1224000" y="3187800"/>
            <a:ext cx="120600" cy="1062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2679840" y="2908440"/>
            <a:ext cx="122040" cy="107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6"/>
          <p:cNvSpPr/>
          <p:nvPr/>
        </p:nvSpPr>
        <p:spPr>
          <a:xfrm>
            <a:off x="4635360" y="3854520"/>
            <a:ext cx="120960" cy="1080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1552680" y="493560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4ac &g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4335480" y="517032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4ac 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7035840" y="478008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4ac &l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1509840" y="459252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discrimi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1"/>
          <p:cNvSpPr/>
          <p:nvPr/>
        </p:nvSpPr>
        <p:spPr>
          <a:xfrm>
            <a:off x="4280040" y="486252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discrimi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2"/>
          <p:cNvSpPr/>
          <p:nvPr/>
        </p:nvSpPr>
        <p:spPr>
          <a:xfrm>
            <a:off x="6980400" y="451476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discrimi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3413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985680" y="1905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nd where the line  y = 2x + 1  meets the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85680" y="2349360"/>
            <a:ext cx="78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 – 4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 + 1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20  and comment on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887400" y="3003480"/>
            <a:ext cx="52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ace 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by 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x + 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circl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288120" y="300348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x – 4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973080" y="3711600"/>
            <a:ext cx="47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omes    (x – 4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x + 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635200" y="406224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x – 4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(2x + 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519200" y="4414680"/>
            <a:ext cx="41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8x + 16 + 4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8x + 4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1295280" y="5791320"/>
            <a:ext cx="4648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4262400" y="4765680"/>
            <a:ext cx="12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4397400" y="511668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4451400" y="5468760"/>
            <a:ext cx="449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x   = 0 one solution tangent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539640" y="5877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y = 2x + 1,   if  x = 0 then  y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5864400" y="5950080"/>
            <a:ext cx="32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int of contact is (0,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1672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A5BD-F952-46C0-AF6A-CE819EC79875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971640" y="1700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nd where the line  y = 2x + 1  meets the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71640" y="2133720"/>
            <a:ext cx="78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 – 4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 + 1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20  and comment on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900000" y="2708280"/>
            <a:ext cx="52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ace 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by 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x + 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circl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084720" y="270828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x – 4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971640" y="3284640"/>
            <a:ext cx="47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omes    (x – 4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x + 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2627280" y="371628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x – 4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(2x + 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547640" y="4076640"/>
            <a:ext cx="41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8x + 16 + 4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8x + 4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295280" y="5791320"/>
            <a:ext cx="4648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4284720" y="4508640"/>
            <a:ext cx="12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4427640" y="479736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4427640" y="5157720"/>
            <a:ext cx="449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x   = 0 one solution tangent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539640" y="55897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y = 2x + 1,   if  x = 0 then  y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5864400" y="5589720"/>
            <a:ext cx="32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int of contact is (0,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6D8E-66C3-4F08-93C0-483C62509BAB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0" y="134136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ind where the line  y = 2x + 6  meets the circle      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+ 10x – 2y + 1 =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95280" y="2276640"/>
            <a:ext cx="54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ace  y  by  2x + 6  in the circl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5651640" y="2276640"/>
            <a:ext cx="31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0x – 2y +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50920" y="27082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om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x + 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10x – 2(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x + 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+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050920" y="3141720"/>
            <a:ext cx="51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4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24x + 36 + 10x – 4x - 12 +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1295280" y="5791320"/>
            <a:ext cx="4648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132000" y="3573360"/>
            <a:ext cx="23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30x + 25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203640" y="4005360"/>
            <a:ext cx="21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+ 6x + 5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3203640" y="43657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x + 5)(x + 1) 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5435640" y="3573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(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5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3059280" y="4724280"/>
            <a:ext cx="27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 = -5  or   x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24000" y="544500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 y = 2x +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2556000" y="54450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 x = -5  then  y = 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1763640" y="58770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f   x = -1  then  y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20"/>
          <p:cNvSpPr/>
          <p:nvPr/>
        </p:nvSpPr>
        <p:spPr>
          <a:xfrm>
            <a:off x="5796000" y="5445000"/>
            <a:ext cx="0" cy="711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22"/>
          <p:cNvSpPr/>
          <p:nvPr/>
        </p:nvSpPr>
        <p:spPr>
          <a:xfrm>
            <a:off x="2700360" y="5157720"/>
            <a:ext cx="3441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672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724360" y="2781360"/>
            <a:ext cx="3240360" cy="3381840"/>
            <a:chOff x="5724360" y="2781360"/>
            <a:chExt cx="3240360" cy="3381840"/>
          </a:xfrm>
        </p:grpSpPr>
        <p:sp>
          <p:nvSpPr>
            <p:cNvPr id="215" name="Text Box 23"/>
            <p:cNvSpPr/>
            <p:nvPr/>
          </p:nvSpPr>
          <p:spPr>
            <a:xfrm>
              <a:off x="5724360" y="5300640"/>
              <a:ext cx="2887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Points of contact ar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(-5,-4) and (-1,4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4720" y="3429000"/>
              <a:ext cx="1008000" cy="12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19280" y="4365720"/>
              <a:ext cx="66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(-5,-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55600" y="314172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(-1,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20000" y="4149720"/>
              <a:ext cx="1944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172360" y="2781360"/>
              <a:ext cx="0" cy="201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 flipV="1">
            <a:off x="7596360" y="3068280"/>
            <a:ext cx="50472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4374-766C-4CDF-B44C-8A300AD310C5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954000" y="1700280"/>
            <a:ext cx="819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At the line  x</a:t>
            </a:r>
            <a:r>
              <a:rPr b="0" lang="en-GB" sz="2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– 18x + 81 = 0  we can also show there is  only one solution by showing that the discriminant is ze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0" y="1052640"/>
            <a:ext cx="25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Using Discri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755640" y="292428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18x + 81 = 0 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61128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  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4ac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924360" y="3500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18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4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716360" y="40766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364 - 3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659640" y="4005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179280" y="4508640"/>
            <a:ext cx="816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ince  disc = 0  then equation has only one root so there is only one point of contact so line is a tang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0" y="55166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next question  uses discriminants in a slightly      different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116000" y="2421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 +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0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780000" y="285264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=1,    b = -18     c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F192-B0E7-486B-A072-1662A9F7ADA7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23:13Z</dcterms:created>
  <dc:creator>Caroline</dc:creator>
  <dc:description/>
  <dc:language>en-US</dc:language>
  <cp:lastModifiedBy>Caroline</cp:lastModifiedBy>
  <dcterms:modified xsi:type="dcterms:W3CDTF">2009-01-12T23:27:27Z</dcterms:modified>
  <cp:revision>26</cp:revision>
  <dc:subject/>
  <dc:title>Slide 1</dc:title>
</cp:coreProperties>
</file>